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media/image38.wmf" ContentType="image/x-wmf"/>
  <Override PartName="/ppt/media/image8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30F-DBCC-4565-9DBC-CDFC6D2D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5EA-FA62-4AEA-A895-7B6A242F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B51-872F-4952-B5F3-C94864FB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76D-A5BC-41F7-BE2A-1FD49A0C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510-1F69-47D2-ADD7-E0505EEE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BAD-192B-4C7A-AD5E-9128E22D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5F9-25E4-4D02-A4AD-DD879695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02C-1ECD-4D77-9A45-61DF22F0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674-53F1-445C-B986-58C8A05B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50C-83BB-4B7D-9262-132A559F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4A2-51A9-49B5-BB4D-91271F3D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BFA-6E39-41CD-A931-B611DE29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A7B0-F32A-4659-9359-842AE92A8D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5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st Borough Primary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bitats and Food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1219320"/>
            <a:ext cx="1971720" cy="77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nimals do not eat other animals. They survive on plants and are known as “herb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14520" y="3581280"/>
            <a:ext cx="2905200" cy="260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715000" y="3962520"/>
            <a:ext cx="1380960" cy="135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m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nimals, like us, eat both plants and anim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animals are called “om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666880" cy="2311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229536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u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ume” means “ea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mal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sum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ecause they “eat” (consume) food provided by plants or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1266840" cy="1324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304640" cy="123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324480" y="4419720"/>
            <a:ext cx="1524240" cy="144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are living organisms. They need nourishment to surv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do not eat other plants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are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duc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because they produce their own food using sun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edator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1817640" cy="1904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791320" y="2743200"/>
            <a:ext cx="1981080" cy="1879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1440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s eat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5257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do b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at is a predator, because it eats 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ear is a predator, because it eats othe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ople are predators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4800600"/>
            <a:ext cx="2286000" cy="151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animal which is hunted and killed by another animal for food is pr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8120" y="3505320"/>
            <a:ext cx="2743200" cy="2601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3809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40384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ch the predator to its pr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1441440" cy="1757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1905120" cy="1838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219320" y="4495680"/>
            <a:ext cx="1719000" cy="1427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3733920" y="4724280"/>
            <a:ext cx="1828800" cy="97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638680" y="3962520"/>
            <a:ext cx="10670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dators and Pr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191120" cy="2797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9480" y="4800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animals are predators, some are prey - some are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654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edat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a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prey, and the pre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ts eat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y the pred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81080" y="327672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791320" y="2895480"/>
            <a:ext cx="1406520" cy="1724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62520" y="3657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ly is eaten by the thru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cosystem refers to all the animals and plants found in one place, and the way they all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plants and animals live in different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ecosystems can be clos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animals belong to several eco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od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od chain shows what i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3657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4876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ettuce is eaten by the rab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2286000" cy="1611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523880" y="3200400"/>
            <a:ext cx="1105200" cy="10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od chains always start with a pla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429240" y="2362320"/>
            <a:ext cx="2028960" cy="2485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90720" y="3200400"/>
            <a:ext cx="1104840" cy="1009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276720" y="3200400"/>
            <a:ext cx="2286000" cy="930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09680" y="38098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38098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ettuce is eaten by the slug, the slug is eaten by the b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od Chains - a Rem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od chain shows which animals eat other animals or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don’t eat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od chain starts with what gets eaten and the arrows point towards what does the 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od chains only go in on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o the arrows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1104840" cy="1009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590920" y="2133720"/>
            <a:ext cx="1447560" cy="588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800600" y="1905120"/>
            <a:ext cx="1571760" cy="1522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934320" y="1600200"/>
            <a:ext cx="1199880" cy="1981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0574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981440" cy="974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3962520" y="4648320"/>
            <a:ext cx="1323720" cy="933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762120" y="4191120"/>
            <a:ext cx="1904760" cy="1380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H="1">
            <a:off x="5486040" y="50292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666880" y="5029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op of the food ch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057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animals are said to be at the top of the food chain. This is because they are not hunted by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2657520" cy="2600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9880" y="4038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other animal hunts the lion. The lion is at the top of the food chain. Can you think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wild, animals may eat more than one thing, so they belong to more than one food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get the food they need, small herbivores may eat lots of different plants, and carnivores may eat many different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can show this by using a food web, which is just a more complicated version of a food ch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40384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2819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2438280"/>
            <a:ext cx="10666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038480"/>
            <a:ext cx="106704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556272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514600"/>
            <a:ext cx="1067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5562720"/>
            <a:ext cx="10666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343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b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5867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5867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3657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3915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46748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1981080" y="472428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724280" y="4571640"/>
            <a:ext cx="198144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1980720" y="3047760"/>
            <a:ext cx="48769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81080" y="2971800"/>
            <a:ext cx="48006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980720" y="4572000"/>
            <a:ext cx="48006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eaking the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sms living in a habitat depend on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one part of a food chain dies out or is greatly reduced, the consumers have to find alternative food, move away, or sta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then affects more consumers in the same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angered or Extin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number of people in the world is growing at an alarming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is not true for all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some cases, there are only a few of one type of animal left in the w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animal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danger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y die out completely, they becom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tin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oes this happ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lots of reasons why animals become endangered or ex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comm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ss of habitat (woodlands cut down, rivers drying up, hedgerows remov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s or pollution poison the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nting (for sport, their fur, tusks or mea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8080" y="5410080"/>
            <a:ext cx="874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828800" y="5599080"/>
            <a:ext cx="990720" cy="698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666880" y="2590920"/>
            <a:ext cx="586080" cy="637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477120" y="2362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848720" y="5335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838080" y="609480"/>
            <a:ext cx="12956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772400" y="4114800"/>
            <a:ext cx="781200" cy="56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4038480" y="3352680"/>
            <a:ext cx="685800" cy="55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09480" y="3733920"/>
            <a:ext cx="1067040" cy="76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4343400" y="5638680"/>
            <a:ext cx="936720" cy="6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ing for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in our own best interests to look after the world we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 habitat is lost or damaged, it has an effect on everything else, even if we do not see or understand it straigh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 - once something becomes extinct, it’s gone fore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n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thing that affects an animal makes up its environment - where it lives, the weather and all the living things it comes into contact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 living thing, including people, has an effect upon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imal 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living things have to be suited to their environment if they are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sh have streamlined bodies, fins and specially shaped tails to help them move quickly and easily through the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irrels have sharp, strong claws for gripping tree trunks and branches and strong teeth for eating n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the seal adapted to its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114720" cy="2600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5880" y="4038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ippers to help it sw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86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amlined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8769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ck layer of body fat to keep it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429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teeth to catch f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ward-facing eyes for clear vision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nd legs have evolved into a a strong rudder-like 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819520"/>
            <a:ext cx="12952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66880" y="2971800"/>
            <a:ext cx="22100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181480" y="2514600"/>
            <a:ext cx="9907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791320" y="4266720"/>
            <a:ext cx="3045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343400" y="396252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286000" y="4648320"/>
            <a:ext cx="6858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s and Habi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lace where an animal lives is called its habi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nimal lives where it can find food, water, shelter and a 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05320" y="4114800"/>
            <a:ext cx="2286000" cy="207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v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living things (organisms) need food (nourishment) to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ving things in an ecosystem depend on each other for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895480" y="4038480"/>
            <a:ext cx="327672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nimals, like the kingfisher, eat only other animals. These animals are called “carnivor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24280" y="3800520"/>
            <a:ext cx="2305080" cy="2600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057400" y="4422600"/>
            <a:ext cx="1981080" cy="83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21:58:16Z</dcterms:created>
  <dc:creator>West Borough Primary School</dc:creator>
  <dc:description/>
  <dc:language>en-US</dc:language>
  <cp:lastModifiedBy>WinuE</cp:lastModifiedBy>
  <cp:lastPrinted>2001-06-02T23:25:40Z</cp:lastPrinted>
  <dcterms:modified xsi:type="dcterms:W3CDTF">2009-11-02T20:32:07Z</dcterms:modified>
  <cp:revision>12</cp:revision>
  <dc:subject/>
  <dc:title>West Borough Primary School</dc:title>
</cp:coreProperties>
</file>